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5BD-0E82-46D9-B5E1-607538A8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8FE-2BBA-4A5D-B2C9-1A179B9E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3C5-40D3-4D22-852A-F9F2D6FA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2C2-70DA-4C35-BCC0-19BD2625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8AAEA-0C1C-4291-8976-1B42DB2E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61272-CEAC-4C50-897C-23240010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F939D-EB7E-417C-9541-D01D59BC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3AA73-2453-4FB0-BDE1-7B216988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04435-8A62-45CC-AFE3-AAF5D121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CF432-A76A-4E4A-94B8-356672F7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E645D-2896-49D6-BAA5-E26494BF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842-9325-4AB3-8E58-B2B3425E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9BF0F-98B5-4561-8EBD-0FB064A3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63D5C-C1A3-4A2A-8049-F2201258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D555E-0648-44BC-9053-1363C7DC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B9F98-41BE-4BDD-AB53-89EDF48B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1EF15-9D65-4F84-B7B1-55A0CDA6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05C01-9536-4C6A-86BC-0F12DA53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56D01-0C9E-4A8D-9594-F529ACAA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345D1-A8DF-4F72-B2B0-AAB04862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F7516-DA78-4272-AC71-F159BA53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BD8A9-A75F-4641-95EE-442BE80F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0DD-FC0D-4461-B46B-78E3CB9C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85DD9-B4AE-4DA5-BDD0-45AC7140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299C8-B131-49D0-957F-4D4FB3E9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FEFB0-DF13-4E0B-90CF-ACC4CC4A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01877-557D-49C2-9E4A-FB63CEFB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93CC9-D197-45D8-A413-E9908B2B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136FB-77F1-4805-843B-C9B6A731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AADAF-691B-4F06-99DC-24A69280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3D5C7A-3056-4C35-99F9-F72A2C8F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CECB4B-B27B-4605-BEE5-C738E331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93B424-DCA9-406A-BD4C-0ABC6AA7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D65-300D-450C-A1FC-DDAF378F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720965-46E5-43E0-B93E-C6E490B0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1197F6-3B72-42FA-ABE9-26B04F2B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690335-48B8-4DBC-894D-C53260BC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85A79-A35B-4BB3-BA8F-19857032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189D50-444C-4083-A0D9-FD6DE5DC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8F97FC-5DF9-43D9-ABFF-1E29728F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0A8E0E-66A7-4554-B6BE-48EDE661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0FE1C1-3321-4E9D-876E-FA39A38F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A278D2-6EF6-4ECA-9BA3-C6DD7B04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D19-A244-4537-BD1C-78A35E09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279-FDE0-4B5B-A241-82ACEA4C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A69-23BF-4D15-9E6F-45CDB53F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187-5EBE-440E-9CB0-78EDD047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65D-3F64-432A-BFFF-64E5AF9B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f5c6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d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d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eded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6AB4-2E0A-4715-98DC-2E8018E32120}" type="slidenum">
              <a:rPr b="0" lang="en-US" sz="1600" spc="-1" strike="noStrike">
                <a:solidFill>
                  <a:srgbClr val="deded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438086"/>
          </a:solidFill>
          <a:ln w="38160">
            <a:solidFill>
              <a:srgbClr val="438086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f5c6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d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d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eded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2F04-990A-474A-B68D-D503E672062A}" type="slidenum">
              <a:rPr b="0" lang="en-US" sz="1600" spc="-1" strike="noStrike">
                <a:solidFill>
                  <a:srgbClr val="deded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f5c6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d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d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eded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E38D-2C9B-43EE-B14A-74201BD442A8}" type="slidenum">
              <a:rPr b="0" lang="en-US" sz="1600" spc="-1" strike="noStrike">
                <a:solidFill>
                  <a:srgbClr val="deded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2f5c61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eded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8B3D-766A-4140-92C9-0DFAC43094DD}" type="slidenum">
              <a:rPr b="0" lang="en-US" sz="1600" spc="-1" strike="noStrike">
                <a:solidFill>
                  <a:srgbClr val="deded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eded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eded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istoryplace.com/worldwar2/biographies/eichmann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dede"/>
                </a:solidFill>
                <a:latin typeface="Constantia"/>
              </a:rPr>
              <a:t>Brittany Cook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3" descr=""/>
          <p:cNvPicPr/>
          <p:nvPr/>
        </p:nvPicPr>
        <p:blipFill>
          <a:blip r:embed="rId1"/>
          <a:stretch/>
        </p:blipFill>
        <p:spPr>
          <a:xfrm>
            <a:off x="476280" y="1816200"/>
            <a:ext cx="81867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ntenced to dea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nged at Ramien Pris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 May 31, 1962, the State of Israel carried out the only death sentence in it’s history on the man whose only defense was “I was just following orders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Content Placeholder 3" descr="51NwI18ABaL__SL500_AA240_.jpg"/>
          <p:cNvPicPr/>
          <p:nvPr/>
        </p:nvPicPr>
        <p:blipFill>
          <a:blip r:embed="rId1"/>
          <a:stretch/>
        </p:blipFill>
        <p:spPr>
          <a:xfrm>
            <a:off x="1195560" y="225360"/>
            <a:ext cx="6375240" cy="12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7afbd"/>
                </a:solidFill>
                <a:uFillTx/>
                <a:latin typeface="Constantia"/>
                <a:hlinkClick r:id="rId1"/>
              </a:rPr>
              <a:t>http://www.historyplace.com/worldwar2/biographies/eichmann.ht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nizkor.org/hweb/people/e/eichmann-adolf/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jewishvirtuallibrary.org/jsource/Holocaust/eichmann.htm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auschwitz.dk/Eichmann.ht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britannica.com/EBchecked/topic/180925/Adolf-Eichman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://www.encyclopedia.com/doc/1G2-3404701964.htm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Title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7200" y="15238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rchitect of the Holocaust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orn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March 19, 1906 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Cologne, Germany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Into a middle class protestant family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ath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May 31, 1962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</p:txBody>
      </p:sp>
      <p:pic>
        <p:nvPicPr>
          <p:cNvPr id="174" name="Content Placeholder 4" descr="Adolf face.jpg"/>
          <p:cNvPicPr/>
          <p:nvPr/>
        </p:nvPicPr>
        <p:blipFill>
          <a:blip r:embed="rId2"/>
          <a:stretch/>
        </p:blipFill>
        <p:spPr>
          <a:xfrm>
            <a:off x="5310360" y="1444680"/>
            <a:ext cx="3022560" cy="94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e of the most feared and hated Nazi lead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sponsible for the deaths of millions of Jews during WWI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Content Placeholder 4" descr="eich16.jpg"/>
          <p:cNvPicPr/>
          <p:nvPr/>
        </p:nvPicPr>
        <p:blipFill>
          <a:blip r:embed="rId2"/>
          <a:stretch/>
        </p:blipFill>
        <p:spPr>
          <a:xfrm>
            <a:off x="5035680" y="1517760"/>
            <a:ext cx="32860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other died when he was 10 years ol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amily then moved to Linz, Austria after the deat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oor student unlike his 3 brothers and 1 sister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eased as a boy for his looks and dark complex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icknamed "the little Jew"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ent to the same secondary school Hitler had attended 15 years befo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ailed to complete his engineering stud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d various jobs including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A laborer in his father's small mining company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Working in sales for an electrical construction company 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Traveling salesman for an American oil company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</p:txBody>
      </p:sp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oined the growing Austrian Nazi Party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April 1, 1932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He was 26 years old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ggested by his frien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Ernst Kaltenbrunner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2f5c6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A feared henchman in the Holocaust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2f5c6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Took part in extermination camps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2f5c6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ntenced to death in Nuremburg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Crimes against humanity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http://naziwarcrimes.files.wordpress.com/2008/08/dr-ernst-kaltenbrunner1.jpg"/>
          <p:cNvPicPr/>
          <p:nvPr/>
        </p:nvPicPr>
        <p:blipFill>
          <a:blip r:embed="rId2"/>
          <a:stretch/>
        </p:blipFill>
        <p:spPr>
          <a:xfrm>
            <a:off x="6072120" y="2206800"/>
            <a:ext cx="2535480" cy="60465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4"/>
          <p:cNvSpPr/>
          <p:nvPr/>
        </p:nvSpPr>
        <p:spPr>
          <a:xfrm>
            <a:off x="6095880" y="5334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dbe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dbed3"/>
                </a:solidFill>
                <a:latin typeface="Constantia"/>
              </a:rPr>
              <a:t>Ernst Kaltenbru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2860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ter became a member of the SS-Obersturmbannfuehr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ad of the Department for Jewish Affairs in Gestapo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From 1941-1945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ief of Operations in the deportation of 3 million Jews to extermination camp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Title 1" descr=""/>
          <p:cNvPicPr/>
          <p:nvPr/>
        </p:nvPicPr>
        <p:blipFill>
          <a:blip r:embed="rId1"/>
          <a:stretch/>
        </p:blipFill>
        <p:spPr>
          <a:xfrm>
            <a:off x="262080" y="146160"/>
            <a:ext cx="86137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ganized the Wannsee Conference of January 194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Focused on issues related to the “Final Solution to the Jewish Question”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Aimed at the total extermination of European Jewry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</p:txBody>
      </p:sp>
      <p:pic>
        <p:nvPicPr>
          <p:cNvPr id="189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ialed in Jerusale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Crimes against the Jewish people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Crimes against humanity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Constantia"/>
              </a:rPr>
              <a:t>War Crimes</a:t>
            </a: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3a707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dede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43808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nd Guilty on all cou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Content Placeholder 4" descr="eich15.jpg"/>
          <p:cNvPicPr/>
          <p:nvPr/>
        </p:nvPicPr>
        <p:blipFill>
          <a:blip r:embed="rId2"/>
          <a:stretch/>
        </p:blipFill>
        <p:spPr>
          <a:xfrm>
            <a:off x="4863960" y="1457280"/>
            <a:ext cx="35672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6:38:30Z</dcterms:created>
  <dc:creator> </dc:creator>
  <dc:description/>
  <dc:language>en-US</dc:language>
  <cp:lastModifiedBy> </cp:lastModifiedBy>
  <dcterms:modified xsi:type="dcterms:W3CDTF">2009-11-25T17:14:05Z</dcterms:modified>
  <cp:revision>19</cp:revision>
  <dc:subject/>
  <dc:title>Adolf Eichmann</dc:title>
</cp:coreProperties>
</file>